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6E9-5BE3-4AB9-A6A9-A794F2E6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426-07E4-4BF6-8850-502494BB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18E-9B58-46F7-886D-53432682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596-5E73-4D05-8001-4AFCB922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521-83FA-47E1-A555-AA149BA7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D7E-3854-4F17-9745-09C53498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DBE-C20A-4AFE-98F3-907A9FFF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139-D624-4AB8-A451-CE7A5298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2A4-E233-474F-9645-9E9980CE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D52-B28F-4172-94F0-3AE3023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17C-AACA-4074-BBF4-63BE5F57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997-6EAE-4A97-9FAC-5E3704A1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FE99-4F2D-438E-AD21-C0159A124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ibliaonline.com.br/acf/sl/51/11+" TargetMode="External"/><Relationship Id="rId2" Type="http://schemas.openxmlformats.org/officeDocument/2006/relationships/hyperlink" Target="http://www.bibliaonline.com.br/acf/sl/51/11+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84464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O DE CONTAS ÚN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NCULAÇÃO DE RECUR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737712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ria Laídes Hanauer Flat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nalista de Controle Exter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almas – TO, 13 de junho de 2008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69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6880" y="2421000"/>
            <a:ext cx="8817120" cy="4437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198900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1989000"/>
            <a:ext cx="431640" cy="432000"/>
          </a:xfrm>
          <a:prstGeom prst="downArrow">
            <a:avLst>
              <a:gd name="adj1" fmla="val 50000"/>
              <a:gd name="adj2" fmla="val 250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55736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vo da Desp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150920" cy="8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5960" y="2133720"/>
            <a:ext cx="8528040" cy="4535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1557360"/>
            <a:ext cx="431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4320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ssa com Certificação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3984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5280" y="1557360"/>
            <a:ext cx="85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 2ª etapa programada para 2008 será a geração e implantaç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monstrativos da Lei Fed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º 4.320/64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nexos da Lei de Responsabili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isca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ertidões e alertas “</a:t>
            </a: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n line”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6165720"/>
            <a:ext cx="15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1989000"/>
            <a:ext cx="8642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 2ª Etapa (programada para 2008 será a geração e implantação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ocuração digit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nálise do Controle Interno “</a:t>
            </a: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n line”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ção de um grupo de estudos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ompanhamento do SIC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6165720"/>
            <a:ext cx="15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03640" y="3213000"/>
            <a:ext cx="1440000" cy="43200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3068640"/>
            <a:ext cx="1440000" cy="431640"/>
          </a:xfrm>
          <a:custGeom>
            <a:avLst/>
            <a:gdLst>
              <a:gd name="textAreaLeft" fmla="*/ 252000 w 1440000"/>
              <a:gd name="textAreaRight" fmla="*/ 1044000 w 1440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557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306864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320/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6165720"/>
            <a:ext cx="15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27640" y="2852640"/>
            <a:ext cx="291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rtid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er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31417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5300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natura 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392720" cy="3745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2852640"/>
            <a:ext cx="46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55736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BIMENTO DA CERTID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2835000" cy="360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588000" y="1773360"/>
            <a:ext cx="1152720" cy="863640"/>
          </a:xfrm>
          <a:prstGeom prst="flowChartSummingJunction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55736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tinação da Receita Pública é o processo pelo qual os </a:t>
            </a: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recursos públicos são vinculados a uma despesa específica ou a qualquer que seja a aplicação de recurso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sde a previsão da receita até o efetivo pagament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as despesas constantes dos programas e ações governamentais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tem 10 do Manual de Receitas Públicas da STN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nculação de Recur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1557360"/>
            <a:ext cx="87138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OS DE CÓDIGOS DOS RECURSOS VINCUL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0001 a 199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tervalo de códigos definidos pelo TCE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utilização OBRIGATÓRIA na Administração Direta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1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ecursos Próprios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2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MDE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3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FUNDEB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4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SPS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0050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RPPS 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557360"/>
            <a:ext cx="8640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VALOS DE CÓDIGOS DOS RECURSOS VINCUL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ff"/>
                </a:solidFill>
                <a:latin typeface="Arial"/>
              </a:rPr>
              <a:t>500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- Código utilizado pela Administração Indireta para Recursos Próprios</a:t>
            </a:r>
            <a:r>
              <a:rPr b="0" lang="pt-BR" sz="36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33ff"/>
                </a:solidFill>
                <a:latin typeface="Arial"/>
              </a:rPr>
              <a:t>2000 a 4999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- Intervalo de LIVRE          utilização pelas Entidades da Adm. Direta</a:t>
            </a:r>
            <a:r>
              <a:rPr b="0" lang="pt-BR" sz="36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Exemplo: FNDE (campo 4 do RRE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6011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1557360"/>
            <a:ext cx="864216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OS DE CÓDIGOS DOS RECURSOS VINCULADO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5000 a 799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Intervalo de Livre utilização pelas Entidades da Administração Indireta, regidas pela LF nº 4320/64</a:t>
            </a: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8000 a 9999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Intervalo para vinculação dos Recursos Extra-orçamentários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557360"/>
            <a:ext cx="842472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N editou a Portaria nº 136, de 6 de março de 2007, criando 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upo Técnico de Padronização de Procedimentos Contábeis, responsável pela análise e a elaboração de diagnósticos e estudos, visando à padronização mínima de conceitos e práticas contábeis,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plano de cont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classificação orçamentária de receitas e despesas públicas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 âmbito da União, Estados, Distrito Federal e Municí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ravés do SICAP – Sistema Integrado de Controle e Auditoria Pública, os 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municípios tocantinense</a:t>
            </a:r>
            <a:r>
              <a:rPr b="0" lang="en-US" sz="2200" spc="-1" strike="noStrike">
                <a:solidFill>
                  <a:srgbClr val="6600ff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 antecipar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 implantação do plano de contas único e o controle da vinculação de recurs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remessas de dados contábeis são encaminhadas ao TCE</a:t>
            </a:r>
            <a:r>
              <a:rPr b="0" lang="en-US" sz="2200" spc="-1" strike="noStrike">
                <a:solidFill>
                  <a:srgbClr val="0099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or meio eletrônico e com assinatura digital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5843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o de Contas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1773360"/>
            <a:ext cx="8642160" cy="43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MAS FALHAS DETECTADAS NAS REMESSAS DO 1º e 2º Bimestre d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ão utilização da conta redutora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1.7.2.1.01.02.00.00.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.1.7.2.1.01.02.00.00.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4.9.0.0.0.00.00.00.00.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1557360"/>
            <a:ext cx="8893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Não contabilização do subelemento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3.3.3.9.0.30.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00.00.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erial de Limpeza 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tos de Higieniz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3120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50920" y="1241280"/>
            <a:ext cx="889308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ontas sintéticas com lançamento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Utilização  de  uma  só  fonte 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urso;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Exemplo: 08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Balancete  de  verificação  sem  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ldo inicial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Número    de    empenhos    n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formizad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mplo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2008.0000.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00000.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42920" y="1557360"/>
            <a:ext cx="720108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usiasmo é agir com determinação para fazer dar certo o que planejamos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ão me lances fora da tua presença, e não retires de mim o teu Espírito Santo. 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lmo</a:t>
            </a:r>
            <a:r>
              <a:rPr b="0" lang="pt-B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51:1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o de Contas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42920" y="15573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BRIG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37712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Maria Laídes Hanauer Flat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email: laidesflatin@uol.com.b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Tel: 63-3232-593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o de Contas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809720"/>
            <a:ext cx="8497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 Tribunal de Contas do Tocantins, dividiu em 2 etapas a implantação do SICAP (Sistema Integrado de Controle e Auditoria Pública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1809720"/>
            <a:ext cx="8713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ª Etap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antação do Plano de Contas Únic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mentação do envio da Remess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antação da Certificação Digi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je isso já é uma realidad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jam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52360" cy="8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24920" cy="48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213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530064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335772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067680" cy="4865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4221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35120" y="18097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4560" cy="4738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720" y="1989000"/>
            <a:ext cx="338292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15236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55640" y="1844640"/>
            <a:ext cx="80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724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2637000"/>
            <a:ext cx="64764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93080" y="3068640"/>
            <a:ext cx="64764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1484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te de Verif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1844640"/>
            <a:ext cx="801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8172360" cy="450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768760" y="29224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7691" y="8120"/>
                </a:moveTo>
                <a:lnTo>
                  <a:pt x="7691" y="8120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9080" cy="1224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de Contas do Estado do Tocant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2924280"/>
            <a:ext cx="165564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773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vo da receita por fonte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224000" cy="86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00:42:38Z</dcterms:created>
  <dc:creator>administrador</dc:creator>
  <dc:description/>
  <dc:language>en-US</dc:language>
  <cp:lastModifiedBy>administrador</cp:lastModifiedBy>
  <dcterms:modified xsi:type="dcterms:W3CDTF">2008-06-13T15:56:21Z</dcterms:modified>
  <cp:revision>159</cp:revision>
  <dc:subject/>
  <dc:title>Plano de Contas Único</dc:title>
</cp:coreProperties>
</file>