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6EBDC-B75E-4272-9AE7-4013FE08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E2552-6F06-474B-B07D-DFCBFC05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788AD-82CF-4823-9936-6890089E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AF9F5-2CB4-4D24-B43F-53BE65B8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F71DA-13D0-4FB8-9870-777B7796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C9608-6695-4242-8A87-743D1E75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C5794-82D1-45F1-BA3F-D1AD174A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DB094-F7AF-4DB3-8C3D-7D553E36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AD6BA-1A82-408E-A742-1449B610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7C4E9-6892-44DC-B872-5C99765A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F5DB1-CA27-4CB3-A6DF-A370D421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DD4CA-ACE2-4FE0-BD92-687D2700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Rectangle 41"/>
          <p:cNvSpPr/>
          <p:nvPr/>
        </p:nvSpPr>
        <p:spPr>
          <a:xfrm>
            <a:off x="382896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" name="Picture 43" descr="banne_egep"/>
          <p:cNvPicPr/>
          <p:nvPr/>
        </p:nvPicPr>
        <p:blipFill>
          <a:blip r:embed="rId2"/>
          <a:stretch/>
        </p:blipFill>
        <p:spPr>
          <a:xfrm>
            <a:off x="1162080" y="6172200"/>
            <a:ext cx="561960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3F64-84FE-47EF-87D9-C821588C02C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47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149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Rectangle 41"/>
          <p:cNvSpPr/>
          <p:nvPr/>
        </p:nvSpPr>
        <p:spPr>
          <a:xfrm>
            <a:off x="382896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3" descr="banne_egep"/>
          <p:cNvPicPr/>
          <p:nvPr/>
        </p:nvPicPr>
        <p:blipFill>
          <a:blip r:embed="rId2"/>
          <a:stretch/>
        </p:blipFill>
        <p:spPr>
          <a:xfrm>
            <a:off x="1162080" y="6172200"/>
            <a:ext cx="5619600" cy="566640"/>
          </a:xfrm>
          <a:prstGeom prst="rect">
            <a:avLst/>
          </a:prstGeom>
          <a:ln w="0">
            <a:noFill/>
          </a:ln>
        </p:spPr>
      </p:pic>
      <p:pic>
        <p:nvPicPr>
          <p:cNvPr id="180" name="Imagem 38" descr="Z:\Departamentos\_PastaPublicaTCE\Instituto de Contas 5 de Outubro\Logomarcas\1º Fórum de Contabilidade Publica.jpg"/>
          <p:cNvPicPr/>
          <p:nvPr/>
        </p:nvPicPr>
        <p:blipFill>
          <a:blip r:embed="rId3"/>
          <a:stretch/>
        </p:blipFill>
        <p:spPr>
          <a:xfrm>
            <a:off x="1143000" y="5857920"/>
            <a:ext cx="1928880" cy="8571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5"/>
          </p:nvPr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CONTABILIDADE DO RP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DO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Imagem 2" descr="Z:\Departamentos\_PastaPublicaTCE\Instituto de Contas 5 de Outubro\Logomarcas\1º Fórum de Contabilidade Publica.jpg"/>
          <p:cNvPicPr/>
          <p:nvPr/>
        </p:nvPicPr>
        <p:blipFill>
          <a:blip r:embed="rId1"/>
          <a:stretch/>
        </p:blipFill>
        <p:spPr>
          <a:xfrm>
            <a:off x="61920" y="71280"/>
            <a:ext cx="9024840" cy="665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143000" y="4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ontes de Financiament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143000" y="11970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Contribuições do ente federativo, dos segurados ativos, dos segurados inativos e dos pensionistas;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Receitas decorrentes de investimentos patrimoniais;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Valores recebidos a título de compensação financeira;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Valores aportados pelo ente federativo;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Demais dotações previstas no orçamento federal, estadual e municipal;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Outros bens, direitos e ativos com finalidade previdenciária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1154160" y="450864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Essas fontes de financiamento serão registradas na unidade gestora do RPPS mediante operações correntes, operações de capital e repasses previdenciários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1143000" y="4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servas administrativa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1143000" y="11970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1143000" y="14479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As despesas administrativas da unidade gestora devem ser custeadas pela taxa de administração. Caso o percentual da taxa esteja definido expressamente em texto legal (2%, por exemplo), com as eventuais sobras entre os valores dotados e os valores executadas podem ser constituídas reservas administrativas, para utilização dos recursos nos exercícios seguintes (nas mesmas finalidades permitidas)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14300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Para a utilização das reservas administrativas, no total da previsão da receita já deve estar incluído, quando for o caso, o superávit financeiro administrativo do exercício anterior (ver pág. 56)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1143000" y="4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serva orçamentária do RPP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143000" y="11970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1143000" y="342900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1143000" y="3048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A exemplo das reservas administrativas, com as sobras de recursos previdenciários deve ser constituída a reserva orçamentária do RPPS, destinada  a garantir o pagamento dos benefícios futuros, constituindo, essa “sobra” orçamentária, o fundo de receita para os próximos exercícios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1143000" y="914400"/>
            <a:ext cx="8001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No RPPS é comum que a receita estimada seja maior que a despesa fixada, situação que tende a se inverter ao longo dos anos, à medida que a unidade gestora vai honrando os compromissos sob sua responsabilidade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826920" y="520560"/>
          <a:ext cx="7921800" cy="5195880"/>
        </p:xfrm>
        <a:graphic>
          <a:graphicData uri="http://schemas.openxmlformats.org/drawingml/2006/table">
            <a:tbl>
              <a:tblPr/>
              <a:tblGrid>
                <a:gridCol w="3121200"/>
                <a:gridCol w="838080"/>
                <a:gridCol w="3070440"/>
                <a:gridCol w="892080"/>
              </a:tblGrid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DADE GESTORA DO RPPS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ituação orçamentária “equilibrada”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VIS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TAÇ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ibuições de Servidor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uneração de Investimen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ensação Financei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de Parcelamento de Débi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lha de Pesso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osentadorias e Pensõ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erial e Serviç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9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passe fonte tesour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éficit Tot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erávit Total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826920" y="260280"/>
          <a:ext cx="7921800" cy="5608800"/>
        </p:xfrm>
        <a:graphic>
          <a:graphicData uri="http://schemas.openxmlformats.org/drawingml/2006/table">
            <a:tbl>
              <a:tblPr/>
              <a:tblGrid>
                <a:gridCol w="3121200"/>
                <a:gridCol w="838080"/>
                <a:gridCol w="3070440"/>
                <a:gridCol w="892080"/>
              </a:tblGrid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DADE GESTORA DO RPPS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ituação orçamentária “superavitária”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VIS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TAÇ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ibuições de Servidor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uneração de Investimen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ensação Financei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de Parcelamento de Débi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lha de Pesso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osentadorias e Pensõ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erial e Serviç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passe fonte tesour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serva do RPP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éficit Tot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erávit Total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26920" y="260280"/>
          <a:ext cx="7921800" cy="5608800"/>
        </p:xfrm>
        <a:graphic>
          <a:graphicData uri="http://schemas.openxmlformats.org/drawingml/2006/table">
            <a:tbl>
              <a:tblPr/>
              <a:tblGrid>
                <a:gridCol w="3121200"/>
                <a:gridCol w="838080"/>
                <a:gridCol w="3070440"/>
                <a:gridCol w="892080"/>
              </a:tblGrid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DADE GESTORA DO RPPS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ituação orçamentária “deficitária”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VIS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TAÇ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ibuições de Servidor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uneração de Investimen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ensação Financei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de Parcelamento de Débi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lha de Pesso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osentadorias e Pensõ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erial e Serviç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passe fonte tesour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passe para cobertura de défici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III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éficit Tot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erávit Total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993600" y="639720"/>
          <a:ext cx="7921800" cy="4319640"/>
        </p:xfrm>
        <a:graphic>
          <a:graphicData uri="http://schemas.openxmlformats.org/drawingml/2006/table">
            <a:tbl>
              <a:tblPr/>
              <a:tblGrid>
                <a:gridCol w="3121200"/>
                <a:gridCol w="838080"/>
                <a:gridCol w="3070440"/>
                <a:gridCol w="892080"/>
              </a:tblGrid>
              <a:tr h="520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DADE GESTORA DO RPPS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utilizando a reserva já constituída)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EVIS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TAÇÃO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LO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ibuições de Servidor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uneração de Investiment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ensação Financeir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ceit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serva do RPP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serva Administrativa (taxa)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lha de Pesso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pesa Patronal Intra-Orçamentária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osentadorias e Pensõ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terial e Serviço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8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total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7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éficit Tot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perávit Total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 GERAL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267080" y="25909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00"/>
                </a:solidFill>
                <a:latin typeface="Times New Roman"/>
              </a:rPr>
              <a:t>Procedimentos em contas específica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5" descr="BS00975_"/>
          <p:cNvPicPr/>
          <p:nvPr/>
        </p:nvPicPr>
        <p:blipFill>
          <a:blip r:embed="rId1"/>
          <a:stretch/>
        </p:blipFill>
        <p:spPr>
          <a:xfrm>
            <a:off x="0" y="1981080"/>
            <a:ext cx="4584600" cy="282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212760" y="1538280"/>
            <a:ext cx="4435560" cy="2043720"/>
          </a:xfrm>
          <a:prstGeom prst="rect">
            <a:avLst/>
          </a:prstGeom>
          <a:solidFill>
            <a:srgbClr val="99ff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80"/>
                </a:solidFill>
                <a:latin typeface="Times New Roman"/>
              </a:rPr>
              <a:t>1-ATIVO 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1.1 CIRCULAN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1.2  REALIZ. A LONGO PRAZ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1.4  PERMANENTE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1.9  COMPENSAD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4861080" y="1538280"/>
            <a:ext cx="405432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ff"/>
                </a:solidFill>
                <a:latin typeface="Times New Roman"/>
              </a:rPr>
              <a:t>2-PASSIVO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2.1 CIRCULAN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2.2 EXIGÍVEL LONGO PRAZ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2.4 PATRIMÔNIO LÍQUID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2.9 COMPENSAD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876920" y="3809880"/>
            <a:ext cx="4038480" cy="137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cccc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4-RECEIT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4.1 CORRENT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4.2 DE CAPIT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4.9 (-) DEDUÇÕ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04920" y="3809880"/>
            <a:ext cx="4419360" cy="1373040"/>
          </a:xfrm>
          <a:prstGeom prst="rect">
            <a:avLst/>
          </a:prstGeom>
          <a:solidFill>
            <a:srgbClr val="cc00cc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3-DESPES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3.3 CORRENT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3.4 DE CAPIT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04920" y="5334120"/>
            <a:ext cx="4419360" cy="1373040"/>
          </a:xfrm>
          <a:prstGeom prst="rect">
            <a:avLst/>
          </a:prstGeom>
          <a:solidFill>
            <a:srgbClr val="00fff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Times New Roman"/>
              </a:rPr>
              <a:t>5-RES.  DIMINUTIV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5.1 RES ORÇAMENTÁRI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5.2 RES. EXTRA-ORÇA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Times New Roman"/>
              </a:rPr>
              <a:t>            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4856040" y="5334120"/>
            <a:ext cx="4059360" cy="1373040"/>
          </a:xfrm>
          <a:prstGeom prst="rect">
            <a:avLst/>
          </a:prstGeom>
          <a:solidFill>
            <a:srgbClr val="00ff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ff"/>
                </a:solidFill>
                <a:latin typeface="Times New Roman"/>
              </a:rPr>
              <a:t>6-RES.  AUMENTATIV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6.1 RESULT.ORÇAMENTÁRI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6.2 RESULT.EXTRA-ORÇAM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3333ff"/>
                </a:solidFill>
                <a:latin typeface="Times New Roman"/>
              </a:rPr>
              <a:t>6.3 RESULTADO APURAD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228600" y="152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strutura do plano de contas dos RPPS e Grupo de Trabalho ST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4038480" y="25909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00"/>
                </a:solidFill>
                <a:latin typeface="Times New Roman"/>
              </a:rPr>
              <a:t>Demonstrativos dos RPP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3" descr="C:\Arquivos de programas\Arquivos comuns\Microsoft Shared\Clipart\cagcat50\BS01580_.wmf"/>
          <p:cNvPicPr/>
          <p:nvPr/>
        </p:nvPicPr>
        <p:blipFill>
          <a:blip r:embed="rId1"/>
          <a:stretch/>
        </p:blipFill>
        <p:spPr>
          <a:xfrm>
            <a:off x="838080" y="1603440"/>
            <a:ext cx="3048120" cy="281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of. Msc. Diana L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niversidade de Brasí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ffff00"/>
                </a:solidFill>
                <a:latin typeface="Times New Roman"/>
              </a:rPr>
              <a:t>Contabilidade Aplicada aos Regimes Próprios de Previdência Social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066680" y="1685880"/>
            <a:ext cx="76201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As unidades gestoras que não encaminharam as demonstrações contábeis dos RPPS ao MPS, se encontram irregulares no quesito “</a:t>
            </a:r>
            <a:r>
              <a:rPr b="0" i="1" lang="pt-BR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demonstrações contábeis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” para fins de emissão do CRP. É que passou a valer desde 1º de maio o disposto na Portaria MPS 172/2005, que determinou que fossem encaminhadas até 30 de abril de 2008 as demonstrações referentes ao exercício de 2007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1066680" y="1143000"/>
            <a:ext cx="76201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00"/>
                </a:solidFill>
                <a:latin typeface="Times New Roman"/>
                <a:ea typeface="Tahoma"/>
              </a:rPr>
              <a:t>As demonstrações contábeis estão contempladas no Anexo III da Portaria MPS 916, e são praticamente as mesmas exigidas pela Lei 4.320/1964: Balanço Orçamentário, Balanço Financeiro, Demonstração das Variações Patrimoniais e Balanço Patrimonial. A diferença é que as demonstrações contábeis dos RPPS contemplam contas específicas decorrentes dos procedimentos contábeis exigidos das unidades gestoras, a exemplo da contabilização da avaliação atuarial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1066680" y="1143000"/>
            <a:ext cx="7620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  <a:ea typeface="Tahoma"/>
              </a:rPr>
              <a:t>Até que seja disponibilizada ferramenta própria no site do MPS para captura de dados, o ente federativo instituidor do RPPS deverá encaminhar ao MPS as demonstrações contábeis devidamente chanceladas pela autoridade do ente público, preferencialmente, por documentos digitalizados para o endereço: </a:t>
            </a:r>
            <a:r>
              <a:rPr b="0" lang="pt-BR" sz="2600" spc="-1" strike="noStrike">
                <a:solidFill>
                  <a:srgbClr val="ffff00"/>
                </a:solidFill>
                <a:latin typeface="Times New Roman"/>
                <a:ea typeface="Tahoma"/>
              </a:rPr>
              <a:t>cgaai.contabilidade@previdencia.gov.br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9" name="Object 2"/>
          <p:cNvGraphicFramePr/>
          <p:nvPr/>
        </p:nvGraphicFramePr>
        <p:xfrm>
          <a:off x="304920" y="152280"/>
          <a:ext cx="8658000" cy="596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280"/>
                    <a:ext cx="86580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2" name="Object 2"/>
          <p:cNvGraphicFramePr/>
          <p:nvPr/>
        </p:nvGraphicFramePr>
        <p:xfrm>
          <a:off x="76320" y="380880"/>
          <a:ext cx="9067680" cy="464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906768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5" name="Object 2"/>
          <p:cNvGraphicFramePr/>
          <p:nvPr/>
        </p:nvGraphicFramePr>
        <p:xfrm>
          <a:off x="1230480" y="609480"/>
          <a:ext cx="7684920" cy="502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609480"/>
                    <a:ext cx="768492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8" name="Object 2"/>
          <p:cNvGraphicFramePr/>
          <p:nvPr/>
        </p:nvGraphicFramePr>
        <p:xfrm>
          <a:off x="1150920" y="1600200"/>
          <a:ext cx="7764480" cy="34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600200"/>
                    <a:ext cx="7764480" cy="34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laboração das notas explicativa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143000" y="12952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As informações devem contemplar os fatores de integridade, autenticidade, precisão, sinceridade e relevância;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Os textos devem ser simples, objetivos, claros e concisos;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Os dados devem permitir comparações com os de datas de períodos anteriores;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As referências a leis, decretos, regulamentos devem ser fundamentadas e restritas a casos em que contribuam para o entendimento do assunto tratado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4038480" y="25909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00"/>
                </a:solidFill>
                <a:latin typeface="Times New Roman"/>
              </a:rPr>
              <a:t>Outros demonstrativos dos RPP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Picture 3" descr="C:\Arquivos de programas\Arquivos comuns\Microsoft Shared\Clipart\cagcat50\BS01580_.wmf"/>
          <p:cNvPicPr/>
          <p:nvPr/>
        </p:nvPicPr>
        <p:blipFill>
          <a:blip r:embed="rId1"/>
          <a:stretch/>
        </p:blipFill>
        <p:spPr>
          <a:xfrm>
            <a:off x="838080" y="1603440"/>
            <a:ext cx="3048120" cy="281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752480" y="198108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Os RPPS devem continuar elaborando os demonstrativos exigidos pela Lei de Responsabilidade Fiscal, nos prazos e condições já observado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026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mbiente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1027"/>
          <p:cNvSpPr/>
          <p:nvPr/>
        </p:nvSpPr>
        <p:spPr>
          <a:xfrm>
            <a:off x="990720" y="17524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Sistema de Previdência brasileiro se organiza em três regimes distintos: Regime Geral de Previdência Social, Regime Próprio de Previdência Social e Regime de Previdência Complementar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1028"/>
          <p:cNvSpPr/>
          <p:nvPr/>
        </p:nvSpPr>
        <p:spPr>
          <a:xfrm>
            <a:off x="811080" y="3352680"/>
            <a:ext cx="8180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1029"/>
          <p:cNvSpPr/>
          <p:nvPr/>
        </p:nvSpPr>
        <p:spPr>
          <a:xfrm>
            <a:off x="963720" y="3657600"/>
            <a:ext cx="795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Regime Próprio de Previdência Social (RPPS) contempla os servidores públicos titulares de cargos efetivos civis da União, Estados, DF e Municípios, e militares dos Estados e DF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Da parte do Ministério da Previdência Social, ainda são exigidos: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emonstrativo Previdenciário do RPPS (receitas e despesas)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imestr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emonstrativo Financeiro do RPPS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imestral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omprovante dos repasses, recolhimentos e arrecadações das contribuições à unidade gestora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imestr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emonstrativo de Resultados da Avaliação Atuarial – DRAA: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nu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4267080" y="25909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00"/>
                </a:solidFill>
                <a:latin typeface="Times New Roman"/>
              </a:rPr>
              <a:t>Procedimentos em contas específicas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3" descr="C:\Arquivos de programas\Arquivos comuns\Microsoft Shared\Clipart\cagcat50\BS00975_.wmf"/>
          <p:cNvPicPr/>
          <p:nvPr/>
        </p:nvPicPr>
        <p:blipFill>
          <a:blip r:embed="rId1"/>
          <a:stretch/>
        </p:blipFill>
        <p:spPr>
          <a:xfrm>
            <a:off x="0" y="1981080"/>
            <a:ext cx="4584600" cy="2828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998640" y="1420920"/>
            <a:ext cx="7993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Em função do equilíbrio financeiro e atuarial, as contribuições previdenciárias sempre serão ajustadas em relação aos compromissos previdenciários assegurados pelo regime, sendo as alíquotas praticadas nesse sentido.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00"/>
                </a:solidFill>
                <a:latin typeface="Times New Roman"/>
              </a:rPr>
              <a:t>A base de cálculo da provisão matemática é a avaliação atuarial, que deve ser elaborada na constituição do RPPS e atualizada anualmente. O fato gerador é a expectativa da concessão de benefícios ou o fato de o benefício haver sido concedido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O parecer do atuário é o documento contábil hábil usado pelo contador para proceder o registro, não sendo a sua função contestar os valores apresentados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1430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etodologia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1057320" y="1828800"/>
            <a:ext cx="7934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em como objetivo avaliar o plano de custeio do regime próprio de previdência para que este se mantenha equilibrado, garantindo a continuidade do pagamento dos benefícios cobertos pelo regim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través deste documento é que são estipuladas as taxas de contribuição dos servidores e de contribuição patronal, objetivando atender o equilíbrio financeiro e atuarial do plano, conforme determina a legislação previdenciári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as, o que é avaliação atuarial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1057320" y="1879560"/>
            <a:ext cx="7934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a avaliação atuarial do regime é composta pelos elementos mínimos disciplinados pelo MPS: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base cadastral, plano de benefícios, hipóteses atuariais, regimes financeiros e métodos, valores resultantes da avaliação atuarial, plano de custeio, projeções atuariais, parecer atuarial, formulações e nota técnica atuarial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erá de verificar também se a avaliação atuarial é assinada por profissional ou empresa devidamente registrada no IB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 que o contabilista deve observa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1057320" y="1828800"/>
            <a:ext cx="7934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omenda-se que a avaliação atuarial seja elaborada em atendimento ao prazo da LDO do ente público, já que as informações atuariais deverão acompanhar o anexo de metas. Todavia, quando esse prazo ultrapassar a data de encaminhado do DRAA exigido pelo MPS, até 31 de junho de cada exercício, o levantamento da avaliação atuarial serão então efetuado considerando esse outro prazo, de sorte que as informações prestadas tanto para a LDO como para o MPS levem em consideração a mesma base de cálcul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ata-base da avaliação atuaria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1104840" y="1836720"/>
            <a:ext cx="7935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D - Provisões Matemáticas Previdenciárias (RDE)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C - Provisões Matemáticas Previdenciárias (PELP)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5114880" y="2855880"/>
          <a:ext cx="3952800" cy="27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4880" y="2855880"/>
                    <a:ext cx="3952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4"/>
          <p:cNvGraphicFramePr/>
          <p:nvPr/>
        </p:nvGraphicFramePr>
        <p:xfrm>
          <a:off x="1090440" y="2855880"/>
          <a:ext cx="3897360" cy="276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0440" y="2855880"/>
                    <a:ext cx="3897360" cy="27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AutoShape 5"/>
          <p:cNvSpPr/>
          <p:nvPr/>
        </p:nvSpPr>
        <p:spPr>
          <a:xfrm>
            <a:off x="2905200" y="4869000"/>
            <a:ext cx="5921280" cy="755640"/>
          </a:xfrm>
          <a:custGeom>
            <a:avLst/>
            <a:gdLst>
              <a:gd name="textAreaLeft" fmla="*/ 1019160 w 5921280"/>
              <a:gd name="textAreaRight" fmla="*/ 4091040 w 5921280"/>
              <a:gd name="textAreaTop" fmla="*/ 101160 h 755640"/>
              <a:gd name="textAreaBottom" fmla="*/ 6544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436" hR="21600" stAng="10800000" swAng="-5400000"/>
                <a:lnTo>
                  <a:pt x="11206" y="21600"/>
                </a:lnTo>
                <a:arcTo wR="7436" hR="21600" stAng="5400000" swAng="-2548998"/>
                <a:lnTo>
                  <a:pt x="21125" y="7600"/>
                </a:lnTo>
                <a:lnTo>
                  <a:pt x="16756" y="0"/>
                </a:lnTo>
                <a:lnTo>
                  <a:pt x="11437" y="7600"/>
                </a:lnTo>
                <a:lnTo>
                  <a:pt x="14396" y="7600"/>
                </a:lnTo>
                <a:arcTo wR="7436" hR="21600" stAng="2851002" swAng="2239696"/>
                <a:lnTo>
                  <a:pt x="9321" y="20894"/>
                </a:lnTo>
                <a:arcTo wR="7436" hR="21600" stAng="5709301" swAng="5090699"/>
                <a:close/>
              </a:path>
              <a:path fill="darkenLess" w="21600" h="21600">
                <a:moveTo>
                  <a:pt x="0" y="0"/>
                </a:moveTo>
                <a:arcTo wR="7436" hR="21600" stAng="10800000" swAng="-5400000"/>
                <a:lnTo>
                  <a:pt x="11206" y="21600"/>
                </a:lnTo>
                <a:arcTo wR="7436" hR="21600" stAng="5400000" swAng="309301"/>
                <a:lnTo>
                  <a:pt x="9321" y="20894"/>
                </a:lnTo>
                <a:arcTo wR="7436" hR="21600" stAng="5709301" swAng="5090699"/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139760" y="304920"/>
            <a:ext cx="778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ntabilização da avaliação atuarial inicia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066680" y="12924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cada ano, essa provisão deverá ser atualizada de acordo com a avaliação atuarial. Caso a necessidade da provisão seja superior ao valor que já estiver contabilizado, faz-se a COMPLEMENTAÇÃO da provisão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990720" y="299736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 - Provisões Matemáticas Previdenciárias (RD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 - Provisões Matemáticas Previdenciárias (PEL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990720" y="400536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aso contrário, procede-se a REVERSÃO da provisão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990720" y="46530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 - Provisões Matemáticas Previdenciárias (PEL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 - Reversão de Provisão Matemática Previdenciárias (RA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11430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tualização do registr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1143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conhecimento pelo ente públic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14300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A partir do registro contábil da avaliação atuarial, entende-se que já há o reconhecimento do Passivo Atuarial, não havendo necessidade de o ente público fazer reconhecimento de dívida nesse sentido, até porque o registro da avaliação já caracteriza a assunção do compromisso. Assim, para acompanhamento e controle, o ente público reconhece a obrigação apenas no </a:t>
            </a:r>
            <a:r>
              <a:rPr b="0" lang="pt-BR" sz="2600" spc="-1" strike="noStrike">
                <a:solidFill>
                  <a:srgbClr val="ffff00"/>
                </a:solidFill>
                <a:latin typeface="Times New Roman"/>
              </a:rPr>
              <a:t>Passivo Compensado</a:t>
            </a: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, podendo o RPPS acompanhar a evolução e os direitos relativos a esses valores no Ativo Compensado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1523880" y="16002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Vamos contabilizar a avaliação atuarial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4876920" y="4038480"/>
            <a:ext cx="3962160" cy="12193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1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undamento lega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143000" y="1752480"/>
            <a:ext cx="7696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ém de observar os fundamentos legais aplicáveis às outras entidades públicas, os regimes próprios de previdência social sujeitam-se às regras  expedidas pelo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inistério da Previdência Soci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como a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ortaria MPS 916/2003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 que trata das regras contábeis aplicáveis aos RPPS,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m aplicação facultativa entre 2004 e 2006, e obrigatória a partir de 2007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1187280" y="152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ntribuições previdenciária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079640" y="1447920"/>
            <a:ext cx="8064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o visto anteriormente, as fontes de recursos da unidade gestora do RPPS encontram-se atualmente classificadas em três grupos de contas: receitas de contribuições, contribuições sociais intra-orçamentárias e repasses previdenciários recebidos pelo RPP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066680" y="36576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uve grande mudança em 2007, que passou a exigir que o registro contábil da contribuição patronal observará todo o ritual da execução orçamentária-financeira: despesa (no ente) e da receita (do RPPS) (veja p. 113 e 114), na categoria intra-orçamentári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1523880" y="16002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Vamos contabilizar as contribuições e repasses previdenciários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4876920" y="4038480"/>
            <a:ext cx="3962160" cy="12193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2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1035000" y="990720"/>
            <a:ext cx="795672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Os valores das contribuições patronais previdenciárias devidas pelo ente público e não repassadas em época própria ao seu RPPS poderão ser objeto de acordo para pagamento parcelado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00"/>
                </a:solidFill>
                <a:latin typeface="Times New Roman"/>
              </a:rPr>
              <a:t>Na prática, estão sendo parcelados os valores das contribuições patronais não recolhidas desde a publicação da EC 20/1998, que assegurou o regime de previdência de caráter contributivo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 u="sng">
                <a:solidFill>
                  <a:srgbClr val="ffffff"/>
                </a:solidFill>
                <a:uFillTx/>
                <a:latin typeface="Times New Roman"/>
              </a:rPr>
              <a:t>Na Portaria MPS 916 para 2007</a:t>
            </a: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, para o registro desses valores será utilizada a conta 4.7.2.1.0.29.15 – Contribuição Previdenciária em regime de parcelamento de débitos.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152280" y="152280"/>
            <a:ext cx="8991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00"/>
                </a:solidFill>
                <a:latin typeface="Times New Roman"/>
              </a:rPr>
              <a:t>Parcelamento de Débitos Previdenciários</a:t>
            </a:r>
            <a:endParaRPr b="1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5715000" y="5105520"/>
            <a:ext cx="3124080" cy="9903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3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pensação previdenciária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1111320" y="1295280"/>
            <a:ext cx="772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compensação previdenciária tem por finalidade evitar que os regimes responsáveis pela concessão do benefício paguem integralmente os benefícios sem a respectiva compensação pelo tempo de filiação ao RGP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Será registrada como Despesa de Compensação Previdenciária quando o RPPS tiver mais obrigações do que direitos, ou como Receita de Compensação Previdenciária quando o RPPS tiver mais direitos do que obrigaçõe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5715000" y="5105520"/>
            <a:ext cx="3124080" cy="9903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4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1069920" y="0"/>
            <a:ext cx="7785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00"/>
                </a:solidFill>
                <a:latin typeface="Times New Roman"/>
              </a:rPr>
              <a:t>Pagamento de benefícios previdenciários</a:t>
            </a:r>
            <a:endParaRPr b="1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111320" y="1600200"/>
            <a:ext cx="772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dependente da fonte de recurso, a sistemática para pagamento dos benefícios previdenciários será a mesma (despesas correntes), devendo ser observado todo o ritual da despesa públic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5715000" y="5105520"/>
            <a:ext cx="3124080" cy="9903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5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111320" y="3340080"/>
            <a:ext cx="772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Quando o ente público efetuar ele mesmo o pagamento de algum benefício previdenciário de responsabilidade do RPPS, há que se observar que o recurso pago não poderá ser simplesmente abatido da despesa patronal devid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069920" y="444600"/>
            <a:ext cx="8074080" cy="76428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arteira de Investimen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1143000" y="1828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Resolução CMN 3.506/2007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ispõe sobre as aplicações de recursos dos regimes próprios de previdência social instituídos pela União, Estados, Distrito Federal e Município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1143000" y="357336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bservadas as limitações trazidas pela Resolução, os recursos dos RPPS podem ser aplicados em segmento de renda fixa, segmento de renda variável e imóveis, sendo que os recursos correntes não podem ser alocados para compra de imóvei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069920" y="444600"/>
            <a:ext cx="8074080" cy="76428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arteira de Investimen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143000" y="15238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nova Resolução flexibilizou a composição da carteira de investimentos, permanecendo a possibilidade de integrar cotas de fundos de investimentos imobiliário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143000" y="27432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gestão das aplicações dos recursos dos regimes próprios de previdência social poderá ser própria, por entidade credenciada ou mist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1143000" y="4114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nova Resolução traz expressamente que os recursos do RPPS devem ser depositados em contas próprias, em instituições financeiras bancárias devidamente autorizadas a funcionar pelo BACEN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1069920" y="444600"/>
            <a:ext cx="8074080" cy="76428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arteira de Investimen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1143000" y="15238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utra novidade é que a nova Resolução dá o prazo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té o dia 31 de dezembro de 2008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para as entidades enquadrem as aplicações em desacordo com o seu conteúdo, ficando, até o o enquadramento, a unidade gestora proibida de efetuar novas aplicações que onerem os excesso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1143000" y="357192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resolução veda, entre outros, aplicações em fundos de investimentos em mercado derivativos que exposição superior ao seu patrimônio (ver vedações art. 28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143000" y="49006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MPS exigirá a certificação do gestor da carteira em 2009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143000" y="1600200"/>
            <a:ext cx="738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1069920" y="168120"/>
            <a:ext cx="8074080" cy="76428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arteira: tratamento contábi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1143000" y="12952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carteira de investimentos dos RPPS receberá apenas registro contábil-financeiro, em função da própria característica que cerca esses valores (garantir a manutenção do regime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1143000" y="32004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expectativa de ganhos deve ser contemplada na previsão orçamentária. As perdas, por outro lado, serão contabilizadas como dedução das receitas auferida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1069920" y="152280"/>
            <a:ext cx="778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rovisão para perdas em investimen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1219320" y="18111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derá haver casos de títulos que tenham valor de mercado inferior ao custo, e, nessa circunstância, deverá ser reduzido ao mercado, o que deve ser feito pela constituição de uma provisão para perda a valor de mercad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1082520" y="3645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 - Provisão para Perdas em Investimentos (RD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 - Provisões para Perdas em Investimentos (redutora AC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quisitos do RPP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1143000" y="17524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 filiação obrigatóri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ssui caráter contributivo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dmite constituição de fundos integrado de bens, direitos e ativ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guro para utilização das situações de risco social e benefícios programad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quilíbrio financeiro e atuari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1069920" y="152280"/>
            <a:ext cx="778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sgate da carteira de investimen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219320" y="18111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 caso do resgate parcial ou total da poupança, fundos de investimentos e títulos públicos, independente dos ganhos e perdas (que já foram contabilizados), o reflexo se dará apenas no sistema financeir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219320" y="3581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No caso da alienação dos imóveis, procede-se à baixa no sistema patrimonial, à realização da receita no sistema orçamentário e à entrada da receita no sistema financeir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2340000" y="2286000"/>
            <a:ext cx="657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Vamos contabilizar o movimento da carteira de investimentos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5715000" y="4495680"/>
            <a:ext cx="3124080" cy="9907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6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avaliaçõ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1147680" y="1219320"/>
            <a:ext cx="769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Portaria MPS 916 estabelece nas Normas de Procedimentos Contábeis que “(i) deverão ser realizadas avaliações e reavaliações periódicas dos imóveis cadastrados pelo RPPS, a fim de que os valores apurados estejam em consonância com o mercado imobiliário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Lei 4.320/1964 (art. 106, § 3º) já fazia referência a esse procedimento contábil ao estabelecer que “poderão ser feitas reavaliações dos bens móveis e imóveis”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1069920" y="152280"/>
            <a:ext cx="778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avaliação como procedimento contábi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1143000" y="1844640"/>
            <a:ext cx="7605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reavaliação consiste na atribuição de novos valores aos elementos do ativo, em virtude de novas avaliações, abandonando-se o custo histórico como base de avaliação. É admitida desde que efetuada de acordo com os critérios técnicos apropriados, e com efeitos evidenciados nas demonstrações contábeis e em notas explicativa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ara este procedimento, deverão ser adotadas as regras dispostas na Resolução CFC 1.004/2004, que aprovou a NBC T 19.6 – Reavaliação de Ativo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Metodologia e periodicida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1143000" y="144792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valor da reavaliação do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ivo imobilizad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a diferença entre o valor de mercado e o valor contábil líquido do bem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ela Resolução do CFC, a reavaliação deve ser efetuada anualmente, a cada quatro anos ou periodicamente, dependendo do cas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Laudo de peri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1150920" y="1143000"/>
            <a:ext cx="776448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avaliação  dos bens deverá ser feita por três peritos ou por empresa especializada, que apresentarão laudo fundamentado, com o seguinte conteúdo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qualificação dos peritos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finalidade do laudo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ritérios de avaliação e elementos de comparação adotados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escrição detalhada dos bens avaliados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indicação do ano de aquisição/entrada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eríodo de vida útil estimada; 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6480" indent="-45720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valor da reavaliaçã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ntabilização da reavaliaçã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1219320" y="1185840"/>
            <a:ext cx="792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resultado de reavaliação, ou seja, a diferença entre o valor da nova avaliação e o valor líquido contábil do bem, depreciado até a data da avaliação, deverá ser incorporado ao ativo reavaliado correspondente e terá como contrapartida a conta reserva de avaliação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1295280" y="3276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 - Bens Imóveis (Ativo Permanent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C - Reserva de Reavaliação (Patrimônio Líquido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1371600" y="441972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ós a reavaliação, a depreciação deve ser calculada e contabilizada sobre o novo valor total, considerando a vida útil econômica remanescente indicada no laud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ivulgaçã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219320" y="1185840"/>
            <a:ext cx="792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comenda-se a divulgação das informações sobre a reavaliação efetuada pela entidade por meio de notas explicativas, destacando-se, no mínimo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s bases da reavaliação e os avaliadores, no ano da reavaliação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histórico e a data da reavaliação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sumário das contas objeto da reavaliação e respectivos valores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efeito no resultado do exercício, oriundo das depreciações, amortizações ou exaustões sobre a reavaliação e baixas posteriore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epreciações e amortizaçõ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1069920" y="1371600"/>
            <a:ext cx="79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siste em considerar como despesa parte do valor gasto com bens, despesas ou direitos que contribuirão para a formação do resultado de mais de um exercício. Diferenciam-se na aplicação (depreciação para bens materiais de uso e amortização para direitos de uso ou despesas a serem diferidas)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Lei 4.320/1964 (art. 108) já fazia referência a esse procedimento contábil ao estabelecer que “as previsões para depreciação serão computadas para efeito de apuração do saldo líquido”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gistr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1069920" y="1371600"/>
            <a:ext cx="7921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o registro da depreciação devem ser observados os seguintes aspecto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obrigatoriedade do reconhecimento da depreciação ou amortização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s encargos da depreciação ou amortização de cada período devem ser reconhecidos no resultado do exercício (variação passiva), a não ser que sejam incluídos no valor contábil de outro ativo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s circunstâncias que podem influenciar o registro, como a reavaliação de ben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quilíbrio financeiro </a:t>
            </a: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versus 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quilíbrio atuarial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963720" y="1981080"/>
            <a:ext cx="795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i="1" lang="pt-BR" sz="2400" spc="-1" strike="noStrike">
                <a:solidFill>
                  <a:srgbClr val="ffffff"/>
                </a:solidFill>
                <a:latin typeface="Times New Roman"/>
              </a:rPr>
              <a:t>equilíbrio financeir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atingido quando o que se arrecada dos participantes do sistema previdenciário é suficiente para assegurar os benefícios assegurado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963720" y="3581280"/>
            <a:ext cx="787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equilíbrio atuarial 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é alcançado quando o equilíbrio financeiro é mantido durante todo o período de de existência do regime, devendo as alíquotas de contribuição ser definidas a partir do cálculo atuarial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bjetivo e base de cálcul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1069920" y="1143000"/>
            <a:ext cx="792180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A depreciação tem por objetivo alocar os custos dos ativos aos exercícios benefícios no decorrer de sua vida útil econômica, para que o valor gasto em sua aquisição seja distribuído proporcionalmente na composição do resultado dos exercícios durante os quais o bem foi utilizado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A depreciação só poderá ser realizada pela entidade que suportar o encargo econômico da perda do poder aquisitivo do bem, de acordo com as condições de propriedade, posse ou uso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ffffff"/>
                </a:solidFill>
                <a:latin typeface="Times New Roman"/>
              </a:rPr>
              <a:t>A base de cálculo é o valor original do bem ou o valor da reavaliação.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1069920" y="260280"/>
            <a:ext cx="778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Fatores para definir a taxa de depreciaçã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1069920" y="2108160"/>
            <a:ext cx="792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estimativa da vida útil e taxa a ser aplicada deve considerar o uso esperado do ativo, o desgaste físico, a obsolescência e os limites legais sobre o uso do Ativ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princípio deverão ser adotados os parâmetros e índices admitidos pela Secretaria da Receita Federal (IN SRF nº. 162/2003), até que haja norma pública oficial regulamentando o assunto no âmbito da Administração Públic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2"/>
          <p:cNvSpPr/>
          <p:nvPr/>
        </p:nvSpPr>
        <p:spPr>
          <a:xfrm>
            <a:off x="1069920" y="152280"/>
            <a:ext cx="778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Divulgaçã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1219320" y="1185840"/>
            <a:ext cx="792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CFC recomenda que as demonstrações contábeis devem divulgar, para cada classe do Imobilizado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método de depreciação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 vida útil, o período de utilização ou a taxa de depreciação utilizada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 valor contábil bruto e a depreciação e amortização acumulada, inclusive provisão para perdas, no início e no fim do períod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As mudanças nas estimativas em relação a valores residuais, vida útil ou período de utilização do bem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Método utilizad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2"/>
          <p:cNvSpPr/>
          <p:nvPr/>
        </p:nvSpPr>
        <p:spPr>
          <a:xfrm>
            <a:off x="167652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Vamos contabilizar a reavaliação e a depreciação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5715000" y="4495680"/>
            <a:ext cx="3124080" cy="9907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7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1143000" y="76320"/>
            <a:ext cx="77724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axa de Administração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1143000" y="1552680"/>
            <a:ext cx="738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forme previsto na legislação previdenciária, parte dos recursos dos RPPS será utilizada para a manutenção de suas atividades administrativa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...as contribuições e os recursos vinculados ao fundo de previdência... somente poderão ser utilizados para pagamento de benefícios...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essalvadas as despesas administrativas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estabelecidas no art. 6º...”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art. 6º refere-se ao estabelecimento da taxa de administraçã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1069920" y="380880"/>
            <a:ext cx="7785000" cy="76428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axa: limite de gas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993600" y="1600200"/>
            <a:ext cx="792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taxa de administração a ser utilizada na cobertura das despesas administrativas do RPPS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rá de até dois pontos percentuai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o valor total da remuneração, proventos e pensões dos segurados vinculados ao RPPS, relativamente ao exercício financeiro anterior”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(Portaria MPAS 4992/1999, alterada pela Portaria 1348/2005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1069920" y="152280"/>
            <a:ext cx="8074080" cy="76428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axa: despesas possívei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914400" y="15415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taxa será destinada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xclusivamente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o custeio das despesas correntes e das despesas de capital necessárias à organização e ao funcionamento do RPPS (entendendo inclusive a aquisição de imóveis e de veículos para uso nas atividades operacionais). É o que di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a Portaria MPS n° 183/2006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914400" y="3886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s regimes também poderão constituir reservas com as sobras do custeio das despesas do exercício,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de que a alíquota da taxa de administração seja definida expressamente em texto legal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2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mpacto orçamentário dos pagamento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963720" y="1676520"/>
            <a:ext cx="818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1116000" y="1523880"/>
            <a:ext cx="7875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pagamentos para as despesas administrativas deverão ser orçadas considerando o limite de gastos permitidos (taxa de administração). Caso o percentual da taxa esteja definido expressamente em texto legal, com as eventuais sobras (valores dotados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versus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lores executados), poderão ser constituídas reservas administrativas, com a utilização dos recursos nos exercícios seguintes, nas mesmas finalidades permitidas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2340000" y="2286000"/>
            <a:ext cx="657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Vamos contabilizar a taxa de administração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5715000" y="4495680"/>
            <a:ext cx="3124080" cy="9907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ficina 8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1026"/>
          <p:cNvSpPr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Unidade Gestora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1027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1028"/>
          <p:cNvSpPr/>
          <p:nvPr/>
        </p:nvSpPr>
        <p:spPr>
          <a:xfrm>
            <a:off x="91440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legislação previdenciária determina que só deve haver uma unidade gestora do RPPS no ente estatal, e que a conta do “fundo” deve ser distinta da conta tesouro da unidade federativa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Os RPPS podem ser constituídos sob a forma de fundo especial, autarquia ou fundação públic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pós a institucionalização, o RPPS será considerado uma entidade contábil, devendo a sua escrituração ser feita destacadamente dentro das contas do ente, com necessidade de diferenciação do seu patrimônio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11430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bjetivo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143000" y="17524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Numa perspectiva sistêmica, a Contabilidade do RPPS não só está voltada para o acompanhamento da execução orçamentária e financeira da unidade gestora do RPPS, mas também para a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rreta apresentação do patrimônio e apreensão das causas de suas mutaçõ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bservando-se, como parte da essência, o cumprimento dos Princípios Fundamentais de Contabilidade e das Normas Brasileiras de Contabilidade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963720" y="3352680"/>
            <a:ext cx="818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Espaço Reservado para Data 1"/>
          <p:cNvSpPr/>
          <p:nvPr/>
        </p:nvSpPr>
        <p:spPr>
          <a:xfrm>
            <a:off x="335268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imes New Roman"/>
              </a:rPr>
              <a:t>CONTABILIDADE APLICADA AOS RPP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Times New Roman"/>
              </a:rPr>
              <a:t>Elaboração do Orçamento </a:t>
            </a:r>
            <a:br>
              <a:rPr sz="4400"/>
            </a:br>
            <a:r>
              <a:rPr b="1" i="1" lang="pt-BR" sz="4400" spc="-1" strike="noStrike">
                <a:solidFill>
                  <a:srgbClr val="ffff00"/>
                </a:solidFill>
                <a:latin typeface="Times New Roman"/>
              </a:rPr>
              <a:t>do RPP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9:04:50Z</dcterms:created>
  <dc:creator/>
  <dc:description/>
  <dc:language>en-US</dc:language>
  <cp:lastModifiedBy/>
  <dcterms:modified xsi:type="dcterms:W3CDTF">2008-06-11T02:42:04Z</dcterms:modified>
  <cp:revision>381</cp:revision>
  <dc:subject/>
  <dc:title>Tema: a Contabilidade Pública e seu Ambiente</dc:title>
</cp:coreProperties>
</file>